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8379-A4E4-4CFD-9E37-C17616B0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19BD-228E-49E6-8F0D-D0B2F7D2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C7E6-FD51-485E-9A76-A44E9F807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A873-FEA6-4DE0-A914-4CB4A0F6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ED13-4627-4103-9DA6-0BB31AC7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3188-A6C9-4EB5-BD66-6BCB7357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9DA5-F6BD-4628-8CC9-F3475C03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CD05-B3A7-4821-A826-A8967173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1E02-D368-4CEA-9C31-865A1897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FA1F-A2E1-4785-A3D9-DD58A76F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8524-ECF3-491A-838E-D8718014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C571-3AB4-43FB-BCC7-2E3C9916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13A1-32A4-43FD-B046-74622F6D41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A Remnant shall Retur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8 Lesson 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87-94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ok of Es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3276720"/>
            <a:ext cx="739152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Story of Esther</a:t>
            </a:r>
            <a:br>
              <a:rPr sz="44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ables turned on Haman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(Esther 6:1-14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nwhile King Ahasuerus has a sleepless n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king commands the record of daily events be 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reading king hears -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decai exposed a plot to save his life                                                                                                -Mordecai did not receive any dignity or hon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man was asked what he would do for a man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ng would like to hon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man thinking it was him said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Wear king’s royal apparel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Ride king’s own ho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princes go before proclaiming h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057400"/>
            <a:ext cx="79250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Story of Esther</a:t>
            </a:r>
            <a:br>
              <a:rPr sz="44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ables turned on Haman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(Esther 6:1-14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5440" y="220932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ng commands Haman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apparel and horse and dress Mordec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use him to ride through the stre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efore him and proclaim “This is what the king does to the man he delights to honor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wards Haman covers his head and hurries home in mou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ng calls Haman to come quickly to the second banqu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2057400"/>
            <a:ext cx="79250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Story of Esther</a:t>
            </a:r>
            <a:br>
              <a:rPr sz="48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Haman is slain (Esther 7:1-10)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24382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ng asks Esther at banquet - what is your reques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her replied: I and my people have been sold to be destroy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asuerus, in anger demands -  who would do th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dversary, enemy, even this wicked Hama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asuerus in his wrath goes to the garden and returns to find Haman on the couch with Esther, begging for his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man was hanged on the gallows built for Mordeca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2057400"/>
            <a:ext cx="79250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Story of Esther</a:t>
            </a:r>
            <a:br>
              <a:rPr sz="44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Jews avenge their enemies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Esther 8:1-10:3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228600" y="2437920"/>
            <a:ext cx="8763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her is given Haman’s est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decai is given the king’s signet ring and Haman’s 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man’s decree could not be revoked – 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ng sends out letter declaring the Jews may kill, destroy, annihilate any people that might attack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appointed day the Jews killed 10 of Haman’s sons and over 75,000 of their enem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ws celebrate this event with a feast called Pur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2057400"/>
            <a:ext cx="79250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4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e Story of Esther</a:t>
            </a:r>
            <a:br>
              <a:rPr sz="40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(Book of Esther)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2209680"/>
            <a:ext cx="7925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Setting of Story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ountry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Persia - the present powerful Emp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ule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Zerxes, title-Ahasuerus, with Vashti his Qu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Time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484 B.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Place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usha the pa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Event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Great Feast that lasted seven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guests drank royal wine from golden vessels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33520" y="1981080"/>
            <a:ext cx="8076960" cy="76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e Story of Esther</a:t>
            </a:r>
            <a:br>
              <a:rPr sz="40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hasuerus put away Vashti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Esther 1:1-22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2285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asuerus becomes tipsy with wine on the 7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commands Queen Vashti to show her beauty to the people and the pri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en Vashti refuses the king’s comm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ng and his advisors put out decree that all wives should show honor to husb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en Vashti is put away from king and her royal 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057400"/>
            <a:ext cx="800100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e Story of Esther</a:t>
            </a:r>
            <a:br>
              <a:rPr sz="40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Esther becomes Queen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Esther 2:1-18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38080" y="22856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r young virgins from all provinces are brought to Shushan the pa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decai, a Jew in Shushan, was raising his cousin Esther as his own daugh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her, being fair and beautiful, was brought in with the other maidens chosen for the 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asuerus favored Esther above all others and made her his new queen, not knowing she was a J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057400"/>
            <a:ext cx="784872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e Story of Esther</a:t>
            </a:r>
            <a:br>
              <a:rPr sz="40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Mordecai saves the King’s life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Esther 2:19-23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808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decai sat at the king’s gate da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decai overhears a plot to kill Ahasue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decai tells Esther who in turn tells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asuerus in Mordecai’s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lotters were hanged and a record of the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air was written in the Persian chron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057400"/>
            <a:ext cx="784872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e Story of Esther</a:t>
            </a:r>
            <a:br>
              <a:rPr sz="40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Haman plots to kill the Jews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Esther 3:1-15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man was in a position above all other princes and all the king’s servants bowed to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decai refuses to bow to Ha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man learning Mordecai was a Jew  determined to kill the whole Jewish 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man convinced Ahasuerus to issue decree to destroy the Jews completely in about a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09480" y="1981080"/>
            <a:ext cx="7925040" cy="76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e Story of Esther</a:t>
            </a:r>
            <a:br>
              <a:rPr sz="40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sther intercedes with the King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Esther 4:1-7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09480" y="2209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decai learns the horrible news, then puts on sackcloth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as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decai tells Queen Esther she must intercede with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ng even if against the law and puts her life in peril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her goes into the king and he extends his scep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her makes two requests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the king and Haman come to a feast to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morrow may they return for a second banqu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057400"/>
            <a:ext cx="79250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e Story of Esther</a:t>
            </a:r>
            <a:br>
              <a:rPr sz="40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Haman plans to destroy Mordecai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Esther 5:9-14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man was honored to eat at the king’s fea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man again sees Mordecai at king’s gate refusing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w to hi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man was furious and devises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man builds a 75 foot gallows to hang Mordecai the following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2057400"/>
            <a:ext cx="79250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4T02:21:00Z</dcterms:created>
  <dc:creator>John Vines</dc:creator>
  <dc:description/>
  <dc:language>en-US</dc:language>
  <cp:lastModifiedBy>Frank D Vines</cp:lastModifiedBy>
  <dcterms:modified xsi:type="dcterms:W3CDTF">2006-06-12T16:44:51Z</dcterms:modified>
  <cp:revision>33</cp:revision>
  <dc:subject/>
  <dc:title>A Remnant shall Return</dc:title>
</cp:coreProperties>
</file>